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88574"/>
        <c:axId val="78589910"/>
      </c:barChart>
      <c:catAx>
        <c:axId val="38188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89910"/>
        <c:crosses val="autoZero"/>
        <c:auto val="1"/>
        <c:lblAlgn val="ctr"/>
        <c:lblOffset val="100"/>
        <c:noMultiLvlLbl val="0"/>
      </c:catAx>
      <c:valAx>
        <c:axId val="78589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88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08E-7787-4B4A-A291-729FCA35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5D0-619A-41B7-BEFF-AB84562A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B1E-A2F4-41FE-A181-4ECBE886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31E-7B8B-4EDF-9AE4-DF3CFB73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E63-B565-43F6-A26E-F0EA0595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7AF-6ADA-4D78-AEF1-122366E4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629-520F-4B64-B28C-9E525502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51B-6D74-4CBF-8447-A5B3301D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DD2-DF07-4EE3-B6DC-FF77616B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0C0-6D84-4A43-AE41-587653CB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776-B92C-47AF-8D84-C2E85796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C81-C06B-47E9-8870-095537A5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18F61-3FBC-490E-B827-15CFDC4F41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