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39493"/>
        <c:axId val="63042282"/>
      </c:barChart>
      <c:catAx>
        <c:axId val="13139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42282"/>
        <c:crosses val="autoZero"/>
        <c:auto val="1"/>
        <c:lblAlgn val="ctr"/>
        <c:lblOffset val="100"/>
        <c:noMultiLvlLbl val="0"/>
      </c:catAx>
      <c:valAx>
        <c:axId val="630422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39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DD1-ECDD-4EA7-B5E0-7BD54748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1AE-D442-4B81-A7A8-E353AD7B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2EF-1D84-49A8-B1B0-21425925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2CB-8513-4311-8688-7E095197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A43-72F4-486C-9262-D2FA787D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CD8-AC17-4278-A25A-5885E83B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3F1-0D75-4EF3-9A21-5D2D00C1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C09-970B-4876-89A0-9897F960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5E7-D993-4DAC-9913-80759EF2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C6E-EFCB-458D-BC48-6EE4CE2F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EEE-3555-4822-8959-16D5B5A4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3BD-E407-4501-A369-A892629E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09BB4-0D3A-4A83-8213-7B24AF3CCF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