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54142"/>
        <c:axId val="16924347"/>
      </c:barChart>
      <c:catAx>
        <c:axId val="670541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24347"/>
        <c:crosses val="autoZero"/>
        <c:auto val="1"/>
        <c:lblAlgn val="ctr"/>
        <c:lblOffset val="100"/>
        <c:noMultiLvlLbl val="0"/>
      </c:catAx>
      <c:valAx>
        <c:axId val="169243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541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A82-8F0E-4D83-8066-C08C858A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6825-BEB0-4E6E-9342-0D7EC687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A5A-CEE0-4015-94CD-D8CAE91D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310C-9C69-43F0-ADCD-3F16A14C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20E8-BD15-417C-A2AD-80A063A2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C0E-7C14-4082-82D3-D40BFF0D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0C0F-AE18-44E0-B280-6FBD8B56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A290-9F67-4171-AA10-F6B8E26C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B66-4C47-4E16-8DC9-69069430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20C-6334-483B-8A97-67B7E02E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908-8611-4CB6-BD80-CEA04BBF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AAEB-DD12-47F2-A690-2E645ADF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5D923-7681-4F7F-AC6F-271F86C84A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