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40001"/>
        <c:axId val="39065976"/>
      </c:barChart>
      <c:catAx>
        <c:axId val="11840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65976"/>
        <c:crosses val="autoZero"/>
        <c:auto val="1"/>
        <c:lblAlgn val="ctr"/>
        <c:lblOffset val="100"/>
        <c:noMultiLvlLbl val="0"/>
      </c:catAx>
      <c:valAx>
        <c:axId val="39065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0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1F9-A9C5-44C2-A65B-1221F5FE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7BC-B9D4-468E-BAB4-4EE85F4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3CB-A65A-437E-8063-EF67AD94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DCC-FB3E-4895-A7B2-C73BAE9F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93-EBC2-4752-86D8-E0C91D2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E44-E5D7-41E6-B898-FD720E0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CEE-7D79-4298-A72D-8BECB76F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1EC-EB2A-430D-8AF1-3AD71BD9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13C-4FEB-4AD6-A8E9-711AEF2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AD0-DC04-48ED-AD95-F0436B5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297-E09C-46F3-825B-0234033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C92-14B3-4E1E-9105-E99C893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A1B3-A77E-466C-90F7-C2A4DE502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