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62707"/>
        <c:axId val="58820833"/>
      </c:barChart>
      <c:catAx>
        <c:axId val="15562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0833"/>
        <c:crosses val="autoZero"/>
        <c:auto val="1"/>
        <c:lblAlgn val="ctr"/>
        <c:lblOffset val="100"/>
        <c:noMultiLvlLbl val="0"/>
      </c:catAx>
      <c:valAx>
        <c:axId val="58820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2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26B-55E2-4B05-8D61-0A5ACED4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050-7632-498A-883A-D9B7E141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8A4-C000-407E-AC57-6E632FE6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5E1-81AD-40C4-B451-BD34D673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E6C-6512-4F4E-8717-ECDFC10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544-E180-4DCB-BC43-F353E55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214-7498-430A-9BC4-8C0B10B4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350-1820-4124-BD25-DAB4577C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947-D191-42F9-9E9E-7F7EDBC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726-4A84-402D-9225-06CBD9A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70C-75C6-4957-837B-269A6B5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9FD-74BF-4160-9FC9-434D86A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C9E5-317E-44BF-9CBC-721AA6134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