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089600"/>
        <c:axId val="16151031"/>
      </c:barChart>
      <c:catAx>
        <c:axId val="270896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151031"/>
        <c:crosses val="autoZero"/>
        <c:auto val="1"/>
        <c:lblAlgn val="ctr"/>
        <c:lblOffset val="100"/>
        <c:noMultiLvlLbl val="0"/>
      </c:catAx>
      <c:valAx>
        <c:axId val="161510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0896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DAC9-DBA7-4330-AEC6-19C187DF9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A18E-E8B3-4F44-9F11-1509D456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57F3-6FCD-4BCA-A377-6994A7338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4FB4-97E3-465F-B54C-E89CCD5F0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4D04-D313-45A1-A851-7469804F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22D2-AD50-4697-925C-57743F63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BE36-D6BA-4904-8DC3-9A1197D7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DD58-A917-49DB-B9A2-CB42C41B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8112-CB8C-4121-B9E8-132324FA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39DC-174E-4E05-881E-29ADD91F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011C-A8D9-4A97-914E-0CDCFA42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5734-0B37-4E59-A6F7-AA6853E7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6C9D67-2A72-4BA4-9B5E-4E7D9325A1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