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926033"/>
        <c:axId val="6990500"/>
      </c:barChart>
      <c:catAx>
        <c:axId val="859260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90500"/>
        <c:crosses val="autoZero"/>
        <c:auto val="1"/>
        <c:lblAlgn val="ctr"/>
        <c:lblOffset val="100"/>
        <c:noMultiLvlLbl val="0"/>
      </c:catAx>
      <c:valAx>
        <c:axId val="69905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9260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FDF7-E76B-46C5-B518-B6EE23023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8B8D-4BE8-4CEE-8880-88EE7BE2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7A5C-69D3-47E4-9556-E7E11C322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D991-0966-4390-9BD0-B9F164B16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DEFD-03D1-4AA8-A103-1566FA90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942D-5A09-4787-9F9D-9BC51316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1D90-1C3E-4F8D-8D0B-A1E85449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0311-CBB5-4769-A928-ED2F8A87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AE8E-A37C-45C2-9EE5-1BD4681C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FE9D-23BF-4A1C-8D71-4753543A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253D-A55D-4FF8-9DD3-19FA20EC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EFFA-2315-438A-9B00-4E5852DA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1DFBA3-0E19-4D44-9969-BE453B0179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