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35315"/>
        <c:axId val="16190921"/>
      </c:barChart>
      <c:catAx>
        <c:axId val="68435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90921"/>
        <c:crosses val="autoZero"/>
        <c:auto val="1"/>
        <c:lblAlgn val="ctr"/>
        <c:lblOffset val="100"/>
        <c:noMultiLvlLbl val="0"/>
      </c:catAx>
      <c:valAx>
        <c:axId val="16190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5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97C-8128-4E4A-A5FE-34BB5F4A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41B-D887-44C8-A3D3-21B7D68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E05-7766-4946-9F6D-CD65955A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37C-2FD0-411A-82F2-A28D1E18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925-6E89-4B7C-A644-A0B9D3F8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F39-2827-4A49-86E5-ECB8C155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B84-890A-4A1F-A29D-CD36E6F6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FD1-25BD-4094-8AC3-2BEA87E8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BCE-B4E9-466C-A1C7-FE0ABBF6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FA1-16D9-4AEC-AA1A-5C9DF5F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4DC-FF30-4263-8304-4FA0DF36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F84-677C-44EA-910C-A722FC41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8B500-992A-4FEC-B80D-296AFE5F8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