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20391"/>
        <c:axId val="26696257"/>
      </c:barChart>
      <c:catAx>
        <c:axId val="49920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96257"/>
        <c:crosses val="autoZero"/>
        <c:auto val="1"/>
        <c:lblAlgn val="ctr"/>
        <c:lblOffset val="100"/>
        <c:noMultiLvlLbl val="0"/>
      </c:catAx>
      <c:valAx>
        <c:axId val="26696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20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47E-F673-48AE-9658-774414D9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C20-7B79-432C-92D3-46D7F0A0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EA5-1C16-41A3-BBAE-D22299F0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CA4-57B6-45DF-8334-02A93622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D3E-E7B9-48F0-B829-9FFC97BD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89D-EEAB-4393-A26D-BAE4BBD5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044-4052-4BE9-A4BD-77C4E670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55D-7EE5-408A-BDDD-9A11B518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A75-EA93-4CDE-A97D-B63C54A1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D09-B8C8-41A9-AB99-171B64A7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29F-D926-45D5-A1F6-2F560C95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8E9-7518-494A-A1DE-641E3C8C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45374-FBBB-464E-8937-E928A79F3E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