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285849"/>
        <c:axId val="70057119"/>
      </c:barChart>
      <c:catAx>
        <c:axId val="792858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057119"/>
        <c:crosses val="autoZero"/>
        <c:auto val="1"/>
        <c:lblAlgn val="ctr"/>
        <c:lblOffset val="100"/>
        <c:noMultiLvlLbl val="0"/>
      </c:catAx>
      <c:valAx>
        <c:axId val="700571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858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4003-8B7D-463E-B0FD-FE495AB49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0321-ECBB-4EE6-9FFD-5BA447D6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D2DE-B56C-449B-93C2-6EE72C3F8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9862-2F34-4E51-8677-D6CCDF717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74F4-7130-4562-8E7E-9CB52E17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C7AC-62B1-4703-B51C-99979BFB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11FF-FF14-44D1-8EF8-1B173ACE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993E-EE90-4A18-9797-70BA9373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2925-8C61-43D5-B7D9-775EDE4D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8099-4E8F-410E-8206-66E6D641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A904-A059-4DAF-8985-1ADDA0C4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18C7-5E22-4F19-87B9-6D0F5822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78FE2-83F0-40A6-86B4-F6F54238A9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