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35670"/>
        <c:axId val="55909327"/>
      </c:barChart>
      <c:catAx>
        <c:axId val="14735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09327"/>
        <c:crosses val="autoZero"/>
        <c:auto val="1"/>
        <c:lblAlgn val="ctr"/>
        <c:lblOffset val="100"/>
        <c:noMultiLvlLbl val="0"/>
      </c:catAx>
      <c:valAx>
        <c:axId val="55909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35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FE12-BE90-4A5E-9BCD-6EA3CAF1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82E-F93E-43D2-A6B5-4565D56D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64D-59F7-414B-87C9-7F8E072C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0F3-EDD8-4730-BA10-9609DDB1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619-8AF2-4F2C-AC77-B12506A8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E99-06FD-4F6F-9EEC-67B091C2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DC3-AA73-4F30-806E-EFB6D5F7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6BB-6B92-411F-937D-4A56693B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AC0-AE7B-479A-9E61-E62417D9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EF1-D23A-454F-B050-D884DC0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0E1-1F4C-4B13-AE5A-6BEF6DB6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7B2-B5B3-4DFA-9CA3-87FCF8C0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CD3D9-0A07-4165-A537-26D722F23E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