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864574"/>
        <c:axId val="69599533"/>
      </c:barChart>
      <c:catAx>
        <c:axId val="778645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599533"/>
        <c:crosses val="autoZero"/>
        <c:auto val="1"/>
        <c:lblAlgn val="ctr"/>
        <c:lblOffset val="100"/>
        <c:noMultiLvlLbl val="0"/>
      </c:catAx>
      <c:valAx>
        <c:axId val="695995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8645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C85C-AB1F-4A95-9996-9D4A3E422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7E3C-BD32-4BD6-88AE-DF5CDDDFE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CF7C-1483-451E-996C-7CB70A0CE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9F23-3DFC-4387-83E1-FA392D725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2EA5-B1C8-4BCE-AB3B-216B16F28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726A-5220-4FCC-879E-8012CCE6E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03C7-9B5B-45E0-8003-1B0A6F6E0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B5C7-46BF-4BB3-A784-7F991D8DA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1C16-B1C1-4A3F-9DF5-44CF5842D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D50E-8A53-40F3-BBBD-B5F8E4A2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DBE8-6E16-46A2-BC62-113A17180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C0C6-E7AE-44D3-84F1-331A3BF3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1F0193-8861-4B03-A5F3-8D066263D38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