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60773"/>
        <c:axId val="9472406"/>
      </c:barChart>
      <c:catAx>
        <c:axId val="62460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2406"/>
        <c:crosses val="autoZero"/>
        <c:auto val="1"/>
        <c:lblAlgn val="ctr"/>
        <c:lblOffset val="100"/>
        <c:noMultiLvlLbl val="0"/>
      </c:catAx>
      <c:valAx>
        <c:axId val="9472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60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02C-56DE-44E5-9A40-00467C81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1B9-4A7D-4106-B81B-F72CD903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50A-A4D8-45F6-8710-7C9B0034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428-8FD3-4FBA-B9F2-3C861DC2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575-32F5-4A10-A98B-FD042C98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D36-62A1-4FD5-B7F6-B8C9A26E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12D-63B7-4C31-89DA-90DFA5E6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D45-6E85-48A1-90B2-EBD06D68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E9E-1CC8-4AA9-BC78-5E52656B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624-7390-4E28-A448-0FA88B9A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ED2-E056-4392-9DD4-71341383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E8B-0BCC-42EE-A075-90C745BB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6E0C7-43EC-42D3-96D1-6503610EB4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