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38342"/>
        <c:axId val="64002290"/>
      </c:barChart>
      <c:catAx>
        <c:axId val="24438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2290"/>
        <c:crosses val="autoZero"/>
        <c:auto val="1"/>
        <c:lblAlgn val="ctr"/>
        <c:lblOffset val="100"/>
        <c:noMultiLvlLbl val="0"/>
      </c:catAx>
      <c:valAx>
        <c:axId val="64002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38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17C-6C5F-499C-B881-D543CF2E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258-AD66-4928-89A6-764E057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F95-67DE-4E30-BAE6-9C14AD42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61A-4285-4BA5-9178-A56F6D2D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91C-A1BF-457E-8076-EC87CFE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425-604E-43E0-89A5-24AE74B5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AE2-CC4B-4B13-B2CA-01C8BC44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84C-B8C8-4ECE-9946-0DDD25B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3E4-C8D5-4DC9-9D77-745A77F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323-95CE-4DF8-B7B8-A4912CF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F8A-0E8F-4DCE-9AAA-302947B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0E-D235-4CAA-8788-F2B0AD9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EF94B-F06F-4904-9EE5-58FFBE82C3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