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53892"/>
        <c:axId val="95014792"/>
      </c:barChart>
      <c:catAx>
        <c:axId val="95553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4792"/>
        <c:crosses val="autoZero"/>
        <c:auto val="1"/>
        <c:lblAlgn val="ctr"/>
        <c:lblOffset val="100"/>
        <c:noMultiLvlLbl val="0"/>
      </c:catAx>
      <c:valAx>
        <c:axId val="95014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53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A42-D45E-4CAF-9F23-8A330562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F46-5202-47E1-BEFB-310A6937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F3E-DFC0-4915-BB08-2E61402E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DF2-13D0-48F3-9358-73699A93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830-087E-4712-9511-9B327AEE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A53-4E05-4504-9401-0F0D2CC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1A3-D25A-4C06-A8D0-F6AF7F3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66C-99D2-44EC-B091-79161328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03-90C8-41B9-9893-92682AFF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D26-7D50-4A2D-B841-BAA567F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FD7-BFC6-4037-98A4-9B9FBCA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457-F791-4DD3-A7EE-96A6D59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F9E5-7E8A-45BE-9758-F1E3AF42E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