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804118"/>
        <c:axId val="21512021"/>
      </c:barChart>
      <c:catAx>
        <c:axId val="21804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12021"/>
        <c:crosses val="autoZero"/>
        <c:auto val="1"/>
        <c:lblAlgn val="ctr"/>
        <c:lblOffset val="100"/>
        <c:noMultiLvlLbl val="0"/>
      </c:catAx>
      <c:valAx>
        <c:axId val="21512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04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201-23FB-40AA-9D04-A9A5F95D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8C1-902A-4698-9706-6E11B5D6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26CC-FC83-4A7D-BC6E-742B7F71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C88-8652-47F0-A1CB-69974CC0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5F5-D94F-4421-8110-73E03093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D66A-A233-4335-8A95-276353B8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928-9DB6-47DD-8170-6AAF05A3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262-DF77-420F-B86B-373AD4AD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015-D202-4CC4-A0AC-8F13F9E5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3CD-92F7-4679-B9F6-15BD15B6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8E0-5F56-4704-8A60-7C7CFC23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BE4-1E58-45C2-8950-1627A611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3F316-B6BC-4DBF-A43D-BD058DAA51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