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59960"/>
        <c:axId val="93535165"/>
      </c:barChart>
      <c:catAx>
        <c:axId val="62759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35165"/>
        <c:crosses val="autoZero"/>
        <c:auto val="1"/>
        <c:lblAlgn val="ctr"/>
        <c:lblOffset val="100"/>
        <c:noMultiLvlLbl val="0"/>
      </c:catAx>
      <c:valAx>
        <c:axId val="93535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59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329-F086-4018-9660-B80C4765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42A-AC06-484A-8B4D-1C4A936D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4CD-DFC2-4931-A8BF-CCC22C4F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A80-DDF4-4D55-B3E5-A2BD31E7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566-4998-4F3B-90A9-95E772EC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FDC-0147-4248-AC2D-2575A32B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D87-8AAE-4562-B44A-837BF6FF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A58-387D-4AF9-B400-149EB27C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D9C-1F6E-4952-90AC-DC3F281C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8B0-AE78-4B62-A553-F785671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D11-D1B8-4024-8665-C70D9E23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DD2-329C-42A3-B593-53168B8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55B6C-DFA6-4F7D-BE36-9EE2EF3B0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