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06669"/>
        <c:axId val="17971573"/>
      </c:barChart>
      <c:catAx>
        <c:axId val="52006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71573"/>
        <c:crosses val="autoZero"/>
        <c:auto val="1"/>
        <c:lblAlgn val="ctr"/>
        <c:lblOffset val="100"/>
        <c:noMultiLvlLbl val="0"/>
      </c:catAx>
      <c:valAx>
        <c:axId val="17971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06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0A3-0939-4752-A9D2-50E75348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27F-7889-4A75-8256-AC76F220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7C5-4397-4077-84C1-42468A52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1A8-A72F-4B39-BC8A-24DC52B5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44E-30F7-4A7C-A736-59334EBD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149-CA45-45AB-81B2-D33F8FBF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2A9-EDE8-4AB1-A9D0-11F394F2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91E-F659-448B-A7E0-7CB642FB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693-5D0D-4557-8A87-564C401E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EE0-0C11-4DB0-BEB6-07198F19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2DE-7569-429C-BE69-E49BE254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2DC-77DE-45C3-BF5E-C07CDEC6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ACB52-13CE-431A-817D-57D140CC22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