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71609"/>
        <c:axId val="49528731"/>
      </c:barChart>
      <c:catAx>
        <c:axId val="73071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28731"/>
        <c:crosses val="autoZero"/>
        <c:auto val="1"/>
        <c:lblAlgn val="ctr"/>
        <c:lblOffset val="100"/>
        <c:noMultiLvlLbl val="0"/>
      </c:catAx>
      <c:valAx>
        <c:axId val="49528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1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E2D-2B55-4167-B90D-67332925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6DE-97B1-4476-B599-8D4EE24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06A-4220-495A-AB21-88A93799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D51-8FD2-4FCE-ABCF-0FE00809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AA0-3B36-41EA-884E-86BE14D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983-0624-462C-99ED-D2B51209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833-530D-40CF-BBE3-0514A048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67F-65C8-4F92-9033-201FA8E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2D3-46A7-447A-8491-124064D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3D6-ACD1-4443-8FF9-8BD314C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C7D-E46F-4346-A3A2-F491638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6AD-3AD7-4A73-909D-AA752BB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3D395-30B2-4543-8DD9-24F4ABE4DD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