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57729"/>
        <c:axId val="95201915"/>
      </c:barChart>
      <c:catAx>
        <c:axId val="58057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01915"/>
        <c:crosses val="autoZero"/>
        <c:auto val="1"/>
        <c:lblAlgn val="ctr"/>
        <c:lblOffset val="100"/>
        <c:noMultiLvlLbl val="0"/>
      </c:catAx>
      <c:valAx>
        <c:axId val="95201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57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C8D-41B6-4218-A2AB-3BF62DAC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7AEF-8F56-4857-9CB4-95CF5793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3E3-8913-4795-AE7C-256818DB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972-7A74-4D30-B7F9-6880B83C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775-DAE3-4E82-81BF-A16336AC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788-2DD2-4CC4-8F52-9E717163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730-7C0B-4C5B-9439-E49B95CA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7AD-B69A-40DB-995A-FA76BB59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1C1-9AD4-45C8-860C-FD3FCAF8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DB4-D50F-4671-A55E-9AEA46EB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5D1-17B4-47A6-9940-69D338FC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3399-266B-43B8-B5AC-0FB18D1A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9D69F-0302-440C-8AC9-A3975B9856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